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9191-1536-4212-A0DE-84E2F9C7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725-8027-463F-A9B4-2B5F247C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808-ED80-4832-B8B1-4EA5657B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6BF-BE80-45D5-A94A-A33FB44E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E172-E438-4561-ACA4-65C79F91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E711-D0D8-46F2-BFF7-DB28CC42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F0BC-33D5-474F-8108-73759A84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9CB7-2B67-4200-BC0A-604E0BB6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8583-57C5-4D2E-9F9E-FC145078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0CC2-C0B2-4901-8196-C52BF75F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8212-8096-416C-AEFD-81353E36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ED1-DCFE-4385-A4B6-45D86115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B7C6-AF7A-4977-B0D2-DA5FBC13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61EE-401A-4FAF-AFE2-984FD9FB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371F-23AC-4AFA-8B90-D2386F4B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23D9-BB9C-4B8D-B93B-E7465F2C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E4B6-F074-49C9-89E1-D8C5E8CB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781-58EB-43B1-8DD9-60CDC908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F97-AD72-46A6-B4D7-FB6A37BA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AB1-FAE0-405C-875E-787CB2BC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9353-037A-4358-ACBA-D62C9950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5D2-C1B8-4EE3-8D53-A752FB3A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06B-9E80-42A0-9296-26D1B8AA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813-A09D-4495-A569-AE2D194F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DE3F-126A-44C2-A450-B6901E675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7691-3430-48DE-8D78-6A444DE4C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85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00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21320" y="22716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ituição de 193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2376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. 2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São do domínio da Uniã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 – os bens que a esta pertencem, nos termos das leis atualmente em  vigo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I – os lagos e quaisquer correntes em terreno do seu domínio, ou que banhem mais de um Estado, sirvam de limites com outros países ou se estendam à território estrangeir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II – as ilhas fluviais e lacustres nas zonas fronteiriç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. 2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São do domínio dos Estad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 – os bens da propriedade destes pela legislação atualmente em vigor, com as restrições do artigo antecedent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I – as margens dos rios e lagos navegáveis destinados ao uso público, se por algum título não forem do domínio federal, municipal ou parti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0199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45:56Z</dcterms:created>
  <dc:creator>Alexandre Braule</dc:creator>
  <dc:description/>
  <dc:language>en-US</dc:language>
  <cp:lastModifiedBy>Alexandre Braule</cp:lastModifiedBy>
  <dcterms:modified xsi:type="dcterms:W3CDTF">2004-08-10T17:33:20Z</dcterms:modified>
  <cp:revision>69</cp:revision>
  <dc:subject/>
  <dc:title>Apresentação do PowerPoint</dc:title>
</cp:coreProperties>
</file>